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D36-5BA4-4C9D-A300-D03DC395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CEB-4E2E-4BE3-9155-9AF60D45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1DD-05EA-452D-B062-27D7A0FF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74B-AEC1-4A6C-8C54-479071B8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3B8-6DAC-441D-BF92-5F62506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7A9-58B9-4C84-9360-DAF5DA4D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117-1847-4AC7-B605-2D1940EC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1E8-C417-4778-AB8D-0D259A0C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E3C-4340-4326-9ED5-69A84D8D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F46-BC48-41F8-95A3-CA9C0254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C6E-6093-4E25-AB5D-77F0B3B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F05-5241-47CA-882C-2210E0C6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9EAB-2C9E-41B6-AC53-5614BF3EA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3 Znie lásky Božej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lásky Božej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 dieťa, ku mne po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pút hriechu,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mne sa oslob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u ďakuj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elý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do rúk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ikdy nesplat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 svoj, to, Pane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v lásky zaj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avždy zost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š v sláve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ziať ľud verný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 rád ti vzd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chválu, Pan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7:05:09Z</dcterms:modified>
  <cp:revision>20</cp:revision>
  <dc:subject/>
  <dc:title>Je veľký náš Pán, on slávy je Kráľ Nech do všetkých strán  spev vrúcnych znie chvál.</dc:title>
</cp:coreProperties>
</file>